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F060-6AFB-40C4-83C1-0FCEC00F9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2E57-53D5-4E48-A568-DC2A85EE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6F71DA-A537-4C4F-84DD-B9CAB116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361126-57FC-4E7C-BB78-AA9C8AF3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39ED98-62D8-415F-A693-D08BD87F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7D2CFB-B041-44CA-9ABD-179B8E04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3994E7-B801-4CEF-BFC8-BFCCB0E0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93411-D8F4-4382-B3B7-0F80F09E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37E1D2-00E8-4B16-983D-99D81DE3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37E6A2-D210-42A7-AF8F-ACA2BA5D7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1C8479-43C1-4D32-A305-220950C11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869732-C5D7-4454-BA46-DC78FB9EC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B2B2-BB14-4038-8D29-DA0175C3D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F32A8E-AAAD-4F76-9390-01962A81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754385-ED7F-441D-A337-8D0D1312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D5A404-0963-4DA0-AD3F-F3A62C6B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8EB650-2060-472A-85AE-CD186022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148359-8443-45AB-A643-7B465EBE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661F5A-A889-4A7C-AC45-13ADD7A9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CD5F57-4046-464B-AA61-A1175EC5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775EF7-8584-4762-A9CF-44C0C451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3794F1-EDA2-4216-A387-76647446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113AD1-3288-4EAB-B01D-739A5F446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7664-63AC-46F4-A39E-9D0948823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43C632-33FF-4E93-B5C1-E24512892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7DB1A-A43C-4C47-9D22-D0AC2A807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7A65A5-BD89-4E17-9165-0649DB33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F828C-8882-46F8-BCA4-75E35787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38C40-B909-4FA0-9C2C-8AE46A47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2D379-6F3C-4AD9-BEBB-3CB7AC3D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753EF0-CAB3-448F-AF0D-4E18A464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44EA7-FD33-4275-9285-C983DAB5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23AF5-4159-45A0-9199-741884D4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FD7696-E8A7-4518-838D-25567C6C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87A0-FEF9-4721-9344-27B41BB4C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822B7-DD9F-4115-A1BF-E517701D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CA540D-3432-4A54-8FFB-F18907FE9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C2EA1-42B5-4A9C-BF90-E2138D9C7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3C0E71-24F7-4A30-9C31-F88088FCC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DA7CAE-5765-4EFB-A390-134535A7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B12777-823F-4B60-83E5-296A6B24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D36239-3B84-4683-B2DF-AA089B36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B40615-C4A3-4AF6-B276-BB77F477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9761A5-4904-4583-918C-37CF7EAB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EF892B-0796-4F07-B7CA-9751230C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F0AE5-CC94-41D3-915E-24C08BB3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84DE18-FD0A-4A72-88E9-60355363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5A25C0-4D83-4F07-81C3-15D9FF52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31C542-BF73-449C-9CE2-852FC47B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58FE3B-53C3-40A0-A73A-EE1CA6689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6236E7-4DB3-4530-A062-C6C7969EA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30B2FA-A272-43BE-A0E0-5F1D8C107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8D9E31-9023-413F-A0E2-F7894CE4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4AFEE5-D125-4A72-A946-BB221AD0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C3155F-8411-40A0-A1F6-3FD977C5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F0B6CB-7D61-4F7C-A114-CACE960B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0737-5143-4619-9A14-7AFD6AC3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8B3542-C624-44C1-BD7E-B5100C27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CD46A8-ABBF-4238-BA1B-9E3CC0A2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B9CA91-97AD-407E-98E3-598CA513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F9A9F0-7681-42D0-B6D6-20D505E7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EA8010-3016-4586-8C3F-227B010E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20BAE0-FBA6-4CC8-9E66-EA077C60C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C46041-D2FF-4CA3-AF1E-CEFA6C7D3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40A7BC-6809-403D-8A20-D9306E46A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CAA1BE-C6E1-4CE9-9CE2-BDFD4711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7DB3D1-A38C-469E-B093-CE38672C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8979-0D75-4A3A-B006-D3B50F6A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74159C-2A01-4BF4-9BF5-FA908DF0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6ECAB4-A3AD-4C9A-930F-C8DAF432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124C9C-944B-41C3-838C-BEF083D0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EE3E83-82C8-44C7-8F0F-709DD73C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24B7B9-C864-4147-8A4B-4EBE1630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2DF43E-BED8-4B19-B4CB-4FA1ADAE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E50D0C-CA0B-4AC3-B6B5-6BA294E8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B80CC9-F01D-4FA5-9877-81C09CC4B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78F89F-C0B4-4D9A-8FCF-E2777675C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3B89AD-CEE6-4039-B04D-3C8883103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2D22-5F51-43C2-8410-911A8F79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8299D8-1450-4157-B4FE-B10F4BEB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8F03EF-3E2B-44FF-9E9F-BF235BAA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0A984C-928F-4D57-8293-02F6695F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D39A7B-2B69-4FB0-A101-6E245A86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856527-EE3F-47A1-8882-CC1345DD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939461-5AB0-4B81-9D0E-DFA653EC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529271-5A8D-49B3-8608-88A2F051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AD2553-C3C6-4904-BDBF-3BA59959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8217F7-2DC3-4029-A9BB-5768C5AE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95BD95-4C9E-409A-9C99-B9515648A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346CF-9A0E-4091-BCCD-B0605517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948EFB-073B-4037-8984-8BF24F6E9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30467A-6269-4CC4-98E1-0E8AC41D4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8156E8-4655-437E-9689-2A9D58C9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1B2061-7940-4181-9D45-22C23861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16EC19-F9F3-4133-BFFF-807A56DD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C7B0BE-16DC-47DA-BB79-410B76203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287E4E-2213-4759-A4E1-2CAD75F1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C1BBCC-CEB9-4780-A34C-EFC40F52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BE4E09-AF60-42B6-8FBE-65BA57ED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630867-E70E-4982-A8C9-DA718952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F5C8-D380-41FE-8BF5-DAE2788F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9A1630-A21B-4733-9444-2F037A7C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C73FC0-F045-4371-A2D5-4994EDE22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AB7FC7-3353-4B1F-807F-80FAC44C2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C3704B-C602-47A8-B84F-C07A766AF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422FFF-78E6-4C71-9B4F-4D80BF77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AF018F-1B64-4164-B057-A6D263FC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6A81C0-9C56-48F4-9662-E53DBEA2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D74721-0EFA-40A0-9594-E5AE4E1F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1CBB4B-1887-43A8-B221-E37CFE69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B8A467-18E6-44BA-9499-249A16DF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AFC0-ECB7-4D1D-AB9D-FBD915BE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0AB45-96E6-467E-B054-1B93DB12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4601A3-B5BD-45BC-9783-3957DB51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39AE98-A2BD-4544-ACCF-AFD43602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D9D362-20E9-46A9-AD84-1911BC8F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74CE1A-EF40-45F1-B292-7B8965C52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CA5FB4-F35F-4DFC-9594-387CD4293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AD90B2-0AC8-4752-B0DC-0BD0C365D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85C6B4-232F-4FCF-B6A1-9DC02C32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259181-6145-49F2-A9A0-4EDD5A64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6C0133-5718-4D7F-9118-2007BAB5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9E46D7-8388-43B3-9EA8-F623C43A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D513-E64E-477D-895C-3A261CEB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F4FF0B-A6D8-46DF-9E15-ECCDB448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1463B5-97A0-40A0-8DA0-9A08E629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5EF13F-AB0B-4EEC-937A-A49B9F20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9B1CD0-BB4A-4F10-B206-6964EAD3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386DDE-A7FB-491E-A276-B5535C33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6E6679-A3EA-4BDB-81C5-80782C787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306C42-8F8A-4BD7-ABB8-56D491276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39C5E1-5B1D-41A5-B082-7F423CC14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ABB271-A960-43CF-B500-A7936279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A1C5FD-EE2E-45B9-B824-9477DA16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F0781-4D7F-406B-AF81-343434B8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15285B-9BAC-4138-BD73-DB3E50AD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AFDD1F-5016-446E-9C43-D09FB93D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A04A22-3029-46EB-A4E8-00240B83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B43B83-74F8-48E4-A316-75EF78BF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429653-1505-4882-A97E-8DD382FF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70E78A-13D6-4EFA-ABD3-9AA0BCAA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9EC1D3-A727-4BB0-BC73-A564B0EB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5946FF-8ED1-4DCC-BB67-BCCD1BFF5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3FB685-6EA8-4B5D-A5C7-09458D87C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0BB91C-834A-4109-BB8D-C321A32F7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F66B-5FB3-4445-BE1A-240329802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E4668C-FC2B-428B-9EA8-41277FB7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5F1D6B-8FCF-4B6A-A376-89DB3C94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8A6379-5326-4C4E-9DAF-427F6406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36F8F6-3873-4EBD-A852-E17C8C48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BE70FF-500D-478F-9CCA-A84BCD0F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3FABAD-F095-4D7D-BDE7-B69E00F9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DDE14C-9293-4C72-8751-063EF27C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B81037-160F-4F71-9650-5D26169A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79E5C6-AB5F-44FF-9C7A-5D8C0EB9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B66A49-5083-4D80-BC62-06B1588F0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1E454-08DC-411C-B634-2847332BB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CFFD8B-1647-4CFE-9782-17DD23692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0A4A00-B238-4776-9A1D-D92FCF512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FC405F-30FC-42C4-82E6-BCAE3D8C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05D4F0-4F06-4D5F-B9E2-CC37D553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7D7310-99D4-4AFC-8BD7-617A1FF7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30E919-2E90-415D-821C-D1E1ED36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66302A-74DA-4682-969A-6AC92EA4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A2F345-E404-43E8-9396-52D1223B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0D7B20-1C24-4659-8B94-42A015B4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8A68E6-AECA-4DF3-A1E2-5FDF7BF4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0773E-5805-4A6D-81A4-6D6F6F99E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369892-3B27-472D-A56D-11C0D554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3D22C3-98AC-4BE4-8C73-22C37E45C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421260-AF0E-4AEF-9283-AE929A98E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04C18-DE24-41F7-B8F6-4A746439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8AA1A-FB0D-4BFB-977B-B4B8141F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EC0A7-28A1-44EB-95B5-3566A6CC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629BE-E164-4851-ACDF-88A9A6E1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4D1A-82CA-4D86-8D28-F5D22C67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E20FF-33B5-4499-960A-88B66149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1DD9F-4A93-4F77-974D-CE1AEF79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7473E-C856-4932-BD64-76349D7B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A2D44-961E-4596-BC18-D601ED8E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863AE-EC0E-4C21-B646-4053E81A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7E59F-8B00-4758-B882-5295E1589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CD677-782F-4BC3-8548-18D194D7C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1B18C-EAC6-4E05-A7DC-66089D7CA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3861B-0161-4FAB-9A49-BCDD8E6C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7FF59-85EF-4769-8572-94E606EE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E6EF-388C-487D-96F7-210DD65C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E8E0D-7FC5-414F-898B-80386D63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9B506-813A-4CEA-B0CC-963ECB31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EDB8D-11C4-4CA5-8339-6282ED59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ADB40-9601-42A6-BCFB-CA1585F6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2C8F8-8B79-4857-883B-A95199D4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BC3D0-617B-4015-8762-C737E230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0402D-A652-453E-A50C-DD7602F3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F5081-9675-4EF0-AFC1-4FF76CDDC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C5DB7-2280-474F-B6E9-09F787CED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180E5-E237-445E-A825-DCDB1F9B7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BD22-33EC-4B7B-BE52-83A01F71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BDB54-CEBA-4CE9-AB0F-F7576E09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EC057-3828-4D6B-9C69-4C76C5E8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3EC1E-2F37-4CAC-9590-F34552BE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26744-F665-45C8-8091-BCF0B53F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E466D-B82C-4786-ADB3-7A220C0F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6F14C-0BA8-4E1E-BBD0-E9226C48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1B550-DD78-4EA9-8084-4A086532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7BDAF-B1ED-41E9-93F9-2004A2EA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C4CB1-BEC5-4AB3-B869-158A235F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81397-65B1-4618-A127-CC94A1F1B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BA1B-3987-4EDA-AC36-3895BAF6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0A13B-3D0A-46B8-8DDF-8BA04AC82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64A17-BB30-46BC-AC2D-11DC94AF3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15E2D-2CF2-40D2-8004-F9424306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4E451-1BDD-4074-9228-DAD5FB76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966B9-3E7C-4F17-9262-E4A14C5A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510B1-F998-42A6-8E34-11507B14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D4827-70BC-4838-B502-6AA54636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D2AEC-46DB-4876-BD4E-5EED1A8A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D0889-E60E-45A6-A13E-D365229D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3ABA0-6FE0-40D9-AC7E-1818C6FA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244B-ED7E-43BA-8B1E-5B9E9083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8D9B6-F8FA-43AC-B54F-224CA008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2C8A8-99F3-4EA5-9FEB-76C0696A5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710C2-90D2-4CA6-8F50-FD6A43987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8C19D-11AE-4DAC-98A6-A120D4B2A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E6D96-55DB-4FF5-9286-88854A80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89D1C-0B1E-4D15-8D4E-D9638EC9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079E7-3BFE-4895-9EF2-3AB699F4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0A6E4-A85B-47D9-BB93-C9D707DA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042C8-3BC8-4CD7-8284-37221420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3F879-CB94-4520-9E65-E62A6F65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9732-1F1A-468C-9002-B055BDF3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317E7-3E8A-4683-9392-5A71D51F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5A97B-2FF4-414E-A90C-66F2EA0F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F1E63-9EB7-4BE2-8493-24311E26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F254A-3838-4ACD-916D-DACD24B58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6087B-2C25-4801-9AE1-7BAADC20E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E2EA8-1514-4975-8DAD-D7879EDA8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8E363-B6A5-423F-B1F3-C9DFFE03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6BEC2-730A-4B0A-BA41-025A921A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AAFD4-86F3-4816-8FC9-15FF12EF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DDFB7-1DE2-4476-9D06-EA522EC6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D4B4-7803-4072-88F2-A94A1567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63973-3412-4B56-8C2E-A9527793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2845C-3AE5-426F-B89C-DD66F095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4C22A-2F3E-408F-8B14-AAD52334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58387-06F6-47DE-9690-BC54AC4F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76F04-34F1-4284-ABD2-5AF19F22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223CB-2D72-4F87-BBA7-B25903EEA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32C39-C5B7-43BA-879B-2C51C14EB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461B26-FA8C-4CCD-B8F9-C0C0D73BD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3FC4A3-2956-4AF7-8D9F-BD057D91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FC9DFB-9A68-47AF-8C40-432073E6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2309-9A5D-4C6E-99CD-28404C0E34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D839-7E15-4191-9DE6-D5D1F24B79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EDC3-BBEF-4A5B-A0C2-41AA47D69A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4307-9BE6-4DAB-A091-9B6B26355A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7E1B-1F8C-40B5-AC30-DA82387323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FF1B-0D92-46C0-B360-7AA34C21CC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5964-E3C4-4BFB-AE17-9A89FF4E2F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031C-694A-4B6E-AF00-2856127F75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FF35-4A77-4762-AD17-AD46C748D5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0F5E-96AF-4A54-B02E-25B0EFBE4E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30E3-48AF-40FE-AC7B-B497A43FB3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4122-94F5-46E3-AA06-B704FFC610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EABD-0A22-411A-8085-7D14527D4D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5748-E3EC-4627-B685-C72F0CB485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5706-46B4-46C2-9F01-4FF305DBF7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A1F9-BC87-4CC0-A772-1FCBCD9B73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81CD-5E60-408B-B5F4-CC098AA359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EA59-3CC5-4916-AF0F-937682FEF0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464F-2BA7-43D1-A252-EF4D26BA43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5E53-2B2B-484F-8891-8BF5A73721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25B7-5F56-4F00-BE21-61DFE9B964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9966-2A56-49F5-8910-897F517CE1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9580-4EE9-42FB-A738-9724D74797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AA1F-19E1-4F7F-B48D-71AF2F313A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61BF-F824-477A-8A8A-4FFD993222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DC46-EDEC-4679-9ECC-A4654DC3A9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0341-3670-40D7-A2EB-8AD68CCDBC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0E48-B68C-4F26-BD31-0CD3438076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FB8D-AE49-4B41-B8F9-7D365661D4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31C8-97DB-40C6-AF3F-11A65CF6B1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A9AD-D705-48A4-863A-DE96F4C30F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8562-0A59-4DFC-B2ED-8F40316116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B88C-C374-4656-BC4D-57D327CE2D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F47D-442B-42BE-8671-CC9615834F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1385-B5B1-4DAD-B07F-4D030C6BD4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B918-9FE0-47E9-850E-17738EB2A2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AB45-0540-4E79-BA78-FE65625F8C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CF6B5-AA71-441A-9D14-8293ADEC6F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B96F-FA1A-483B-A1FA-C638F16B4B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6B23-FC1E-40DA-BD3D-A122C1A756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835280" y="1197000"/>
            <a:ext cx="5629320" cy="124776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2190600" y="3005280"/>
            <a:ext cx="476280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图片 69633" descr=""/>
          <p:cNvPicPr/>
          <p:nvPr/>
        </p:nvPicPr>
        <p:blipFill>
          <a:blip r:embed="rId1"/>
          <a:stretch/>
        </p:blipFill>
        <p:spPr>
          <a:xfrm>
            <a:off x="285840" y="1123920"/>
            <a:ext cx="8572320" cy="46101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2"/>
          <a:stretch/>
        </p:blipFill>
        <p:spPr>
          <a:xfrm>
            <a:off x="971640" y="3716280"/>
            <a:ext cx="6121440" cy="8650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3"/>
          <a:stretch/>
        </p:blipFill>
        <p:spPr>
          <a:xfrm>
            <a:off x="1116000" y="4840200"/>
            <a:ext cx="4392720" cy="86544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4"/>
          <a:stretch/>
        </p:blipFill>
        <p:spPr>
          <a:xfrm>
            <a:off x="5580000" y="4797360"/>
            <a:ext cx="316872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376200" y="666720"/>
            <a:ext cx="8391600" cy="58579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3203640" y="19162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7740720" y="1989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3059280" y="321300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7596360" y="321300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2556000" y="4292640"/>
            <a:ext cx="647640" cy="9367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7"/>
          <a:stretch/>
        </p:blipFill>
        <p:spPr>
          <a:xfrm>
            <a:off x="6127920" y="450864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8"/>
          <a:stretch/>
        </p:blipFill>
        <p:spPr>
          <a:xfrm>
            <a:off x="2771640" y="5516640"/>
            <a:ext cx="648000" cy="9367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9"/>
          <a:stretch/>
        </p:blipFill>
        <p:spPr>
          <a:xfrm>
            <a:off x="6012000" y="5589720"/>
            <a:ext cx="64764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9410" descr=""/>
          <p:cNvPicPr/>
          <p:nvPr/>
        </p:nvPicPr>
        <p:blipFill>
          <a:blip r:embed="rId1"/>
          <a:stretch/>
        </p:blipFill>
        <p:spPr>
          <a:xfrm>
            <a:off x="390600" y="1600200"/>
            <a:ext cx="8362800" cy="365760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1403280" y="2349360"/>
            <a:ext cx="1656000" cy="4478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7913520" y="3716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4"/>
          <a:stretch/>
        </p:blipFill>
        <p:spPr>
          <a:xfrm>
            <a:off x="3635280" y="4581360"/>
            <a:ext cx="936720" cy="4478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5"/>
          <a:stretch/>
        </p:blipFill>
        <p:spPr>
          <a:xfrm>
            <a:off x="5651640" y="4595760"/>
            <a:ext cx="936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58373" descr=""/>
          <p:cNvPicPr/>
          <p:nvPr/>
        </p:nvPicPr>
        <p:blipFill>
          <a:blip r:embed="rId1"/>
          <a:stretch/>
        </p:blipFill>
        <p:spPr>
          <a:xfrm>
            <a:off x="328680" y="414360"/>
            <a:ext cx="8486640" cy="60292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2"/>
          <a:stretch/>
        </p:blipFill>
        <p:spPr>
          <a:xfrm>
            <a:off x="7885080" y="1413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3"/>
          <a:stretch/>
        </p:blipFill>
        <p:spPr>
          <a:xfrm>
            <a:off x="7885080" y="29527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4"/>
          <a:stretch/>
        </p:blipFill>
        <p:spPr>
          <a:xfrm>
            <a:off x="7927920" y="3716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5"/>
          <a:stretch/>
        </p:blipFill>
        <p:spPr>
          <a:xfrm>
            <a:off x="7942320" y="44658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6"/>
          <a:stretch/>
        </p:blipFill>
        <p:spPr>
          <a:xfrm>
            <a:off x="7956720" y="6021360"/>
            <a:ext cx="502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7352" descr=""/>
          <p:cNvPicPr/>
          <p:nvPr/>
        </p:nvPicPr>
        <p:blipFill>
          <a:blip r:embed="rId1"/>
          <a:stretch/>
        </p:blipFill>
        <p:spPr>
          <a:xfrm>
            <a:off x="590400" y="879480"/>
            <a:ext cx="7963200" cy="54291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1332000" y="2736720"/>
            <a:ext cx="67690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6324" descr=""/>
          <p:cNvPicPr/>
          <p:nvPr/>
        </p:nvPicPr>
        <p:blipFill>
          <a:blip r:embed="rId1"/>
          <a:stretch/>
        </p:blipFill>
        <p:spPr>
          <a:xfrm>
            <a:off x="328680" y="841320"/>
            <a:ext cx="8486640" cy="532440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3132000" y="2708280"/>
            <a:ext cx="503280" cy="8650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3203640" y="3789360"/>
            <a:ext cx="503280" cy="8650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4"/>
          <a:stretch/>
        </p:blipFill>
        <p:spPr>
          <a:xfrm>
            <a:off x="2513160" y="52005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5"/>
          <a:stretch/>
        </p:blipFill>
        <p:spPr>
          <a:xfrm>
            <a:off x="6948360" y="29242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6"/>
          <a:stretch/>
        </p:blipFill>
        <p:spPr>
          <a:xfrm>
            <a:off x="7093080" y="3789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7"/>
          <a:stretch/>
        </p:blipFill>
        <p:spPr>
          <a:xfrm>
            <a:off x="6357960" y="495612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图片 55300" descr=""/>
          <p:cNvPicPr/>
          <p:nvPr/>
        </p:nvPicPr>
        <p:blipFill>
          <a:blip r:embed="rId1"/>
          <a:stretch/>
        </p:blipFill>
        <p:spPr>
          <a:xfrm>
            <a:off x="843120" y="1514520"/>
            <a:ext cx="7457760" cy="38289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2"/>
          <a:stretch/>
        </p:blipFill>
        <p:spPr>
          <a:xfrm>
            <a:off x="3087720" y="1887480"/>
            <a:ext cx="503280" cy="8650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3"/>
          <a:stretch/>
        </p:blipFill>
        <p:spPr>
          <a:xfrm>
            <a:off x="3159000" y="2968560"/>
            <a:ext cx="503280" cy="8650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4"/>
          <a:stretch/>
        </p:blipFill>
        <p:spPr>
          <a:xfrm>
            <a:off x="2468520" y="4379760"/>
            <a:ext cx="432000" cy="38448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5"/>
          <a:stretch/>
        </p:blipFill>
        <p:spPr>
          <a:xfrm>
            <a:off x="6934320" y="1887480"/>
            <a:ext cx="503280" cy="8650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6"/>
          <a:stretch/>
        </p:blipFill>
        <p:spPr>
          <a:xfrm>
            <a:off x="7005600" y="2968560"/>
            <a:ext cx="503280" cy="86508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7"/>
          <a:stretch/>
        </p:blipFill>
        <p:spPr>
          <a:xfrm>
            <a:off x="6315120" y="4379760"/>
            <a:ext cx="43164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54276" descr=""/>
          <p:cNvPicPr/>
          <p:nvPr/>
        </p:nvPicPr>
        <p:blipFill>
          <a:blip r:embed="rId1"/>
          <a:stretch/>
        </p:blipFill>
        <p:spPr>
          <a:xfrm>
            <a:off x="314280" y="585720"/>
            <a:ext cx="8515440" cy="58676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2"/>
          <a:stretch/>
        </p:blipFill>
        <p:spPr>
          <a:xfrm>
            <a:off x="1403280" y="3141720"/>
            <a:ext cx="647640" cy="9349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3"/>
          <a:stretch/>
        </p:blipFill>
        <p:spPr>
          <a:xfrm>
            <a:off x="3492360" y="3141720"/>
            <a:ext cx="648000" cy="9349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4"/>
          <a:stretch/>
        </p:blipFill>
        <p:spPr>
          <a:xfrm>
            <a:off x="5651640" y="3213000"/>
            <a:ext cx="647640" cy="9352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5"/>
          <a:stretch/>
        </p:blipFill>
        <p:spPr>
          <a:xfrm>
            <a:off x="7812000" y="3213000"/>
            <a:ext cx="647640" cy="93528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6"/>
          <a:stretch/>
        </p:blipFill>
        <p:spPr>
          <a:xfrm>
            <a:off x="1476360" y="5445000"/>
            <a:ext cx="647640" cy="93528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7"/>
          <a:stretch/>
        </p:blipFill>
        <p:spPr>
          <a:xfrm>
            <a:off x="3492360" y="5445000"/>
            <a:ext cx="648000" cy="93528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8"/>
          <a:stretch/>
        </p:blipFill>
        <p:spPr>
          <a:xfrm>
            <a:off x="5651640" y="5445000"/>
            <a:ext cx="647640" cy="93528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9"/>
          <a:stretch/>
        </p:blipFill>
        <p:spPr>
          <a:xfrm>
            <a:off x="7740720" y="5445000"/>
            <a:ext cx="64764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8" name="图片 52231" descr=""/>
          <p:cNvPicPr/>
          <p:nvPr/>
        </p:nvPicPr>
        <p:blipFill>
          <a:blip r:embed="rId1"/>
          <a:stretch/>
        </p:blipFill>
        <p:spPr>
          <a:xfrm>
            <a:off x="642960" y="2548080"/>
            <a:ext cx="7858080" cy="176184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2"/>
          <a:stretch/>
        </p:blipFill>
        <p:spPr>
          <a:xfrm>
            <a:off x="6516720" y="283860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3"/>
          <a:stretch/>
        </p:blipFill>
        <p:spPr>
          <a:xfrm>
            <a:off x="4932360" y="3284640"/>
            <a:ext cx="2087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0:45:29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